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BF13-9947-436F-BAF8-D08ED2C80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AC37-E8C1-44AE-B9B8-6E59796D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B7C9-D912-498D-840B-009F50C8D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8024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123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77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98024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123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6C0D-690F-46A6-B13C-B6C23AFDE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F22D-522E-46CA-9789-8275CE1F0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65C1F-48CE-44C5-BF93-3B82A3C4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ACEF-CDA4-4E14-AB61-35217DF0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3102-9088-4EA5-B981-DDDBE64E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7DF1-7A2D-464D-AE00-82D32955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3805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CF01-CF16-48C6-A6EB-E488E799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41E2E-CA78-4659-8366-ABC44156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5952-2505-49E7-9D66-148C8FB0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4051-DB59-4F2A-BF97-3E680638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F6BD-19EA-48A5-9B83-286DD89F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1EAB-3C24-4877-8C9F-C3E0E367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7731-C1F2-4F75-BF38-6A81924E1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8024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123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77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98024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123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95DE-7FA3-4568-84C9-07E636C74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3E27-3DDC-4193-901B-1842F53F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27D6-195F-448A-A8AC-468667EA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E6C0-3893-4E68-9FFB-981173C0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3805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997C-1619-4F3E-9260-E715F100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ED5C-B066-48D7-9704-08F97A46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86F2-1B89-45F9-A0F4-6375ADD7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E6F0-C4DA-4DDC-B8B2-4FAEE296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9943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3921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327636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BA0D-7953-450C-8D9D-A2942C9B6BE4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1440" y="1066680"/>
            <a:ext cx="579132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8520"/>
            <a:ext cx="3048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D364-20C0-4FA5-9FC4-CC8273F6F3E2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971440" y="1066680"/>
            <a:ext cx="579132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Starting Poin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Where to Star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eting tim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ork with administrator to set up a time for the implementation team to mee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nd out when the RtI team meet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gistic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at system is in place for in-house transfers of PEP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mmer stora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-system and out-of-system transf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Next Step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lk with administrator about the development of a standard protoc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one nee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so, whe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cus on core instr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 of Action:  Looking at school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First 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Implementation Team Meeting</a:t>
            </a:r>
            <a:endParaRPr b="0" i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termine lead facilita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view responsibil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k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ere do you see your school’s strength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ere do you see your school struggling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lp the team determine their starting poi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My Step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cing slides on the wiki for how teachers approach looking at existing pla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t up a time at beginning of year to be in each school agai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ll inform you of that time so that you can either give me a heads up or I can give you a heads up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Have Fun!!!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813120" y="1752480"/>
            <a:ext cx="4183200" cy="4343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18:31:07Z</dcterms:created>
  <dc:creator>Chatham County Schools</dc:creator>
  <dc:description/>
  <dc:language>en-US</dc:language>
  <cp:lastModifiedBy>Chatham County Schools</cp:lastModifiedBy>
  <dcterms:modified xsi:type="dcterms:W3CDTF">2010-06-30T18:34:18Z</dcterms:modified>
  <cp:revision>1</cp:revision>
  <dc:subject/>
  <dc:title>Starting Point</dc:title>
</cp:coreProperties>
</file>